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474-C2E2-4F3D-8870-080220BB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1C3-A7DA-4101-A8A2-301260E1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2B9-56AF-428D-BF1B-9BCEBCE3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76F-FAF7-4D3A-AD56-C3A51CCE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72B-CE90-4FB6-B6CB-87A8E835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F21-647D-450A-9D85-E2F28FFE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E5D-553E-44FC-B900-FC3BE5CF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7D2-89CF-419E-BE9A-BC06665D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215-44C2-496C-98AA-521045E0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272-034F-4483-9745-81E4410C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2E1-278A-4280-AE10-BA2E3C83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791-D787-4738-B874-94F50A12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A617-7FE9-43A1-9093-8BA5BFB37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tell, draw, and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math as a part of daily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tell, draw, and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560" y="22860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line units by counting centimeter leng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break apart centimeter lengths into partner li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line segments by reading numbers on a ru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the properties of squares, rectangles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2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label geometric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fine and find perimeters of squares and rect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the perimeters of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angles of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- Uni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present and solve change plus and change minus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and represent change plus and change minus story problems from equations and  Math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nd discuss  change plus and change minus story problem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tell the difference between “change” and “collection”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collection story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lassify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tell with my own words and solve story problems that have  group na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comparison language the correct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comparison story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tell and solve comparison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comparison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unt on or make a ten to solve addition and subtrac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68812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 - Unit 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when problems do not have enough or have extra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problems with not enough information by adding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x and solve problems that have extra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tory problems with hidden information by figuring out what that information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tory problems with not enough information by adding information to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problems with extra information by crossing out the extra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problems with more than one solution st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totals using the doubles plus 1 or the doubles minus 1 strate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that even numbers are those that make two equal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challenging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ddition, mystery addition and subtraction (teen total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the properties of squares, rectangles,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how to find the perimeter of squares, rectangles,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lassify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and explain parallel 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and define parallelo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ddition or subtraction problems involving 0 or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rules for adding or subtracting 0 or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how to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how numbers in different 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how numbers 6 – 10 as 5 and some m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4 cont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escribe the properties of quadrilaterals,  parallelograms, rectangles and squ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ategorize quadrilater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how relationships among quadrilater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- Unit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present numbers to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patterns among numbers in different place value posi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late groups of 10 to decade numbers and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present ones, tens, and hundreds in different w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2 and 3 digit numbers through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totals of ones and t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present 2 and 3 digit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numbers up to 99 in word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a 1 digit number to a 2 digi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actice exchanging pennies for d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5 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and compare 100-partners and10-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problems with tens and some 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decade numbers over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1- and 2- digit numbers to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10 based story problems with decade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sets as odd or 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numbers as odd or 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51920" y="1522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how many of an object is sh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how many of an object will fit in a given 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nvent a method of solving 2-digit addi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roup ones to make a new ten; group tens to make a new 1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0492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addition concepts and strategies to a real-world sit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addition problems using the Show All Totals meth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he difference between tens and ones in 2-digit add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addition exercises using the New Groups Below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he difference between tens and ones in 2-digit add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preferred method to solve 2-digit addition exerci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tell the difference between ones, tens, and hundreds in two digit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2-digit numbers with totals greater than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and contrast different solution methods for 2-digit add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, discuss, and correct common 2-digit addition err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5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addi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he definition of peri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the perimeter of regular and irregular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present 2 and 3-digit money amounts using dollars, dimes and pen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addition concepts and strategies to real world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dd coins to amounts between $1.00 and $2.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bine pennies, nickels, and dimes to make different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dd money amounts to purchase two items between $1.00 and $2.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kip count forward and backwa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nalyze relationships between numbers in seque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patterns in a horizontal hundred gri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addition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find the partners of 2-digit numbers and partners of 1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and analyze repeating patte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tend object and number patte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scribe the missing units in a patter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analog and digital clo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fine a.m. and p.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link times to daily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ime to the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erience how long a minute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fine an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ime to 5 minu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920" y="228600"/>
            <a:ext cx="8610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teen numbers as a ten and some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word names for numbers to 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the break-aparts of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the break-aparts of numbers 2-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visualize various number group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6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observe how the hour hand moves with the minute h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osition the hour hand to reflect the number of minutes after the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ime to 1 minu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time as after the hour and before the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appropriate units to measure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termine elapsed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6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and understand calend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ordinal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and extend patterns in a function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struct and interpret picture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lan a data collection pro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nalyze information in picture graphs to create and solve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comparative term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a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ew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talk about information in picture grap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llect data for a  class proje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comparison problems shown in picture grap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comparative term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ame, mo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ew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talk about information in picture grap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s greater than &gt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s less than &lt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rison symbo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, represent and solve comparison story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information in story problems in a simple picture grap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comparative term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ore, few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a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tables for comparison situ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sk and answer comparison questions using information in a 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llect data for a class proje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7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struct tables and convert them to picture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rd data collected for a class pro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vert data from a tally list to a summary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vert a data table to a picture graph and ask questions based on the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bar graphs with picture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vert picture graphs into bar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04920" y="151920"/>
            <a:ext cx="85341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and analyze information in a bar 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a bar graph to ask and answer comparison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nalyze information in bar graphs to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elect a way to categorize and display raw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bar graphs to display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nalyze information to create bar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bar graphs and circle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nvert bar graphs into circle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ad information from a circle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make and solve problems with a given circle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reate questions and make comparison statements based on a given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nvert horizontal graphs to vertical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4920" y="22824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ad and answer questions about information in tables, bar graphs and circle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find number partners in t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 ch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make predictions from simple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iscuss conclusions and make predictions from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nfer trends from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4560" y="1522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in the contest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break-aparts of numbers 2-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on to ad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on to solve mystery addition and subtrac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that teen numbers are made up of a 10 and some 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numbers that make a teen tot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two numbers that make a teen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rd the Make a Ten strategy in written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a ten by adding two numbers to make a teen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finger, written and mental strategies of making a ten to add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unt on to solve addition, mystery addition and subtrac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a ten to solve mystery addition and subtraction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ddition and subtrac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the same solution methods to mystery addition and subtr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or subtract by counting on, using a number 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understand what the equals sign = means and recognize the symbol for = “is not equal t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 ch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s in vertical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s involving a total and two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419360" y="32767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and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enerate equations from Math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two numbers using the &lt; or &gt; symb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order thre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nvent strategies for adding thre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and discuss teen Math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1519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 -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 processe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4:32:41Z</dcterms:created>
  <dc:creator>MCPS</dc:creator>
  <dc:description/>
  <dc:language>en-US</dc:language>
  <cp:lastModifiedBy>MCPS</cp:lastModifiedBy>
  <dcterms:modified xsi:type="dcterms:W3CDTF">2011-01-27T17:23:48Z</dcterms:modified>
  <cp:revision>149</cp:revision>
  <dc:subject/>
  <dc:title>Slide 1</dc:title>
</cp:coreProperties>
</file>